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1CA-39B5-43C3-A028-5B2DC4AF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0D2-2F83-4CF9-A6A0-8179F734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3F8-A711-4F55-A5FD-68A4D513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E60-7E48-4F56-AC1F-C3CCF31D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E7B-E49C-45E7-BB96-A1CBDD84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246-0BAC-40CE-91EB-77333437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2CD-833E-4DAB-89FF-664D0638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453-4415-4AD6-8CEC-7AD91023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6D3-6098-4CA2-862F-D6805DAB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6F1-9C88-4E0E-B869-FF4053C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64B-4DE3-4EB1-853C-2D8FAF26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730-2194-47E5-90A6-647D34AF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E806-7468-4054-8A2E-9381C308A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4000" y="549360"/>
            <a:ext cx="504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شعار المعارف" descr=""/>
          <p:cNvPicPr/>
          <p:nvPr/>
        </p:nvPicPr>
        <p:blipFill>
          <a:blip r:embed="rId2"/>
          <a:stretch/>
        </p:blipFill>
        <p:spPr>
          <a:xfrm>
            <a:off x="3708360" y="907920"/>
            <a:ext cx="14860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6227640" y="692280"/>
          <a:ext cx="1860840" cy="106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692280"/>
                    <a:ext cx="186084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BISM1" descr=""/>
          <p:cNvPicPr/>
          <p:nvPr/>
        </p:nvPicPr>
        <p:blipFill>
          <a:blip r:embed="rId5"/>
          <a:stretch/>
        </p:blipFill>
        <p:spPr>
          <a:xfrm>
            <a:off x="3635280" y="404640"/>
            <a:ext cx="1486080" cy="406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2640" rIns="1142640" tIns="-913680" bIns="-11376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8160" y="1267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89260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Arial"/>
                <a:cs typeface="Bader"/>
              </a:rPr>
              <a:t>خطوات التسجيل في اختبار القدرات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149720"/>
            <a:ext cx="48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إعدا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Arial"/>
                <a:cs typeface="Monotype Koufi"/>
              </a:rPr>
              <a:t>طارق السنحا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2200" y="260280"/>
            <a:ext cx="8821800" cy="597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40000" y="1052640"/>
            <a:ext cx="21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هنا سيظهر اسم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1557360"/>
            <a:ext cx="649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28600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أكد هنا إذا الاسم صحي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88000" y="2420640"/>
            <a:ext cx="107964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7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جنس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67360" y="4005360"/>
            <a:ext cx="503280" cy="1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431496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ثانوي  ثم حدد الص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4797360"/>
            <a:ext cx="136692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60181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حدد التخصص إما علمي أو نظر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84720" y="6021360"/>
            <a:ext cx="144000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2205000"/>
            <a:ext cx="433080" cy="5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00360" y="364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4292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6093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280360" cy="561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19640" y="189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ff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451640" y="4005360"/>
            <a:ext cx="115272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3080" y="325440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ختر القسم  التعليمي حسب تخصص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24720" y="5734080"/>
            <a:ext cx="50328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9640" y="277956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522936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40"/>
                            </p:stCondLst>
                            <p:childTnLst>
                              <p:par>
                                <p:cTn id="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مدرس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إكمال إدخا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569440" cy="6291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5640" y="105264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تم إضافة اسم مدرستك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148360" y="907560"/>
            <a:ext cx="151128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1989000"/>
            <a:ext cx="57600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1628640"/>
            <a:ext cx="26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سنة التخرج                         الصف الثالث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                       الصف الثاني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1431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349360"/>
            <a:ext cx="1655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28464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05080" y="306864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جوال لتصلك رسالة تأكيد التسج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3500280"/>
            <a:ext cx="2016000" cy="2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4365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422100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هاتف ثابت ولا تنسى كتابة مفتاح المد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203640" y="443700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4437000"/>
            <a:ext cx="410508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54450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يس مهم إدخال بريد الكترون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680"/>
                            </p:stCondLst>
                            <p:childTnLst>
                              <p:par>
                                <p:cTn id="4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34800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تابع إدخال البيانات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667640" cy="4464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24000" y="620640"/>
            <a:ext cx="4176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خاص ببعض الطلا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SKR HEAD1"/>
              </a:rPr>
              <a:t>إن كنت تكتب بيدك اليسرى                                                                فاختر كرسي بمستند كتابة أيسر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1628640"/>
            <a:ext cx="3168360" cy="136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443700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م الانتهاء                                        من ادخال البيانات اضغط  للانتقال لصفحة                   الإقرار بصحة البيان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000760" y="5084640"/>
            <a:ext cx="100800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80"/>
                            </p:stCondLst>
                            <p:childTnLst>
                              <p:par>
                                <p:cTn id="4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977080" cy="6121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46920" y="476280"/>
            <a:ext cx="309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هذه صفحة تأكيد البيان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تأكد من أن جميع البيانات  صحيح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270828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2637000"/>
            <a:ext cx="266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rial"/>
                <a:cs typeface="SKR HEAD1"/>
              </a:rPr>
              <a:t>لا حظ أن اسم المدرسة لم يظهر هنا وسنشرح لاحقاً كيف نجعل اسم المدرسة يظهر معنا ضمن البيانات  لمن لم يظهر مع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2360" y="3141720"/>
            <a:ext cx="93492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153400">
            <a:off x="5640120" y="4327920"/>
            <a:ext cx="367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إذا كانت البيانات صحيحة فاضغط  للحصول على رقم المشتر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787640" y="5373720"/>
            <a:ext cx="863640" cy="431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 rot="12846000">
            <a:off x="-427680" y="5412960"/>
            <a:ext cx="349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إذا كانت البيانات تحتاج لتعديل اضغ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59280" y="6237360"/>
            <a:ext cx="86508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800"/>
                            </p:stCondLst>
                            <p:childTnLst>
                              <p:par>
                                <p:cTn id="5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240"/>
                            </p:stCondLst>
                            <p:childTnLst>
                              <p:par>
                                <p:cTn id="5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8036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80000" y="4076640"/>
            <a:ext cx="129672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1450000">
            <a:off x="712080" y="407592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هذا رقم اشتراكك                     من المهم الاحتفاظ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987640" y="4292640"/>
            <a:ext cx="79236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67640" y="328464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قد تكون العبارة التي في الأعلى مقلقة للبعض من عدم اتمام فتح الملف                 لكن اضغط هن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215040" y="472428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27640" y="4724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732720" y="2637000"/>
            <a:ext cx="151128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4653000"/>
            <a:ext cx="18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تطمئن من أنك نجحت في فتح المل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60"/>
                            </p:stCondLst>
                            <p:childTnLst>
                              <p:par>
                                <p:cTn id="5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60"/>
                            </p:stCondLst>
                            <p:childTnLst>
                              <p:par>
                                <p:cTn id="5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278560" cy="6131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71640" y="213372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ff"/>
                </a:solidFill>
                <a:latin typeface="Arial"/>
                <a:cs typeface="SKR HEAD1"/>
              </a:rPr>
              <a:t>مبر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203640" y="1989000"/>
            <a:ext cx="3744720" cy="648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58920" y="44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Arial"/>
                <a:cs typeface="SKR HEAD1"/>
              </a:rPr>
              <a:t>خطوات التسجيل لهذا العا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1484280"/>
            <a:ext cx="792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84520" y="152712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فتح ملف خاص بالطالب  والحصول على رقم المشتر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78760" y="321300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20976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لتسجيل في الموعد المناس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78760" y="5013360"/>
            <a:ext cx="792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SKR HEAD1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5280" y="49878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تسديد المقابل الما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206064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787920"/>
            <a:ext cx="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133600">
            <a:off x="330120" y="4055400"/>
            <a:ext cx="5429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  <a:cs typeface="SKR HEAD1"/>
              </a:rPr>
              <a:t>حديثنا اليوم سيكون عن طريقة فتح الملف والحصول على رقم المشتر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079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ff"/>
                </a:solidFill>
                <a:latin typeface="Arial"/>
                <a:cs typeface="SKR HEAD1"/>
              </a:rPr>
              <a:t>بعد اتمام فتح الملف لا يعد هذا إنهاء عملية التسجي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-1000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0000"/>
                </a:solidFill>
                <a:latin typeface="Arial"/>
                <a:cs typeface="SKR HEAD1"/>
              </a:rPr>
              <a:t>تنبي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32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SKR HEAD1"/>
              </a:rPr>
              <a:t>بقي عليك خطوتين  حتى تنهي التسجيل                 خطوة تحديد الموعد   ، وخطوةتسديد المقابل المال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" y="479736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إلى الحصة الأولى اليوم غير متاح تحديد موعد الاختبار ، ما عليك إلا الاحتفاظ برقم المشترك والتشييك المستمر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SKR HEAD1"/>
              </a:rPr>
              <a:t>على الموقع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  الإتصال بالهاتف الموحد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ea typeface="SKR HEAD1"/>
              </a:rPr>
              <a:t>920001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42920" y="1517760"/>
            <a:ext cx="727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ff"/>
                </a:solidFill>
                <a:latin typeface="Arial"/>
                <a:cs typeface="SKR HEAD1"/>
              </a:rPr>
              <a:t>مشكلة في التسجيل              قد تواجهه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341360"/>
            <a:ext cx="7704000" cy="3313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404640"/>
            <a:ext cx="84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المشكلة :  عدم ظهور اسم المدرسة بعد فتح المل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197000"/>
            <a:ext cx="84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الحل : بعد اتمام عملية التسجيل الدخول مرة أخرى من بوابة التسجيل كما في الخطوات الأولى للتسجي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00000" y="2852640"/>
            <a:ext cx="783936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182520" y="3284640"/>
            <a:ext cx="2593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Arial"/>
                <a:cs typeface="SKR HEAD1"/>
              </a:rPr>
              <a:t>أدخل رقم                     السجل المدني                   ورقم المشترك                 الذي حصلت عليه هن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6000" y="4259160"/>
            <a:ext cx="22320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501336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Arial"/>
                <a:cs typeface="SKR HEAD1"/>
              </a:rPr>
              <a:t>اضغط تسجيل الدخ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500720" y="4941360"/>
            <a:ext cx="79200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19280" y="4723920"/>
            <a:ext cx="158436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800"/>
                            </p:stCondLst>
                            <p:childTnLst>
                              <p:par>
                                <p:cTn id="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300"/>
                            </p:stCondLst>
                            <p:childTnLst>
                              <p:par>
                                <p:cTn id="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640"/>
                            </p:stCondLst>
                            <p:childTnLst>
                              <p:par>
                                <p:cTn id="6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3794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SKR HEAD1"/>
              </a:rPr>
              <a:t>ستظهر لك هذه الصفحة وهي الصفحة الأساسية الخاصة بك في مركز القيا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7638840" cy="5134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199280" y="2421000"/>
            <a:ext cx="194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لا حظ معي عدم ظهور اسم المدرسة                       أو يظهر إما فيه خطأ أو نق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300720" y="2781360"/>
            <a:ext cx="100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21300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8000"/>
                </a:solidFill>
                <a:latin typeface="Arial"/>
                <a:cs typeface="SKR HEAD1"/>
              </a:rPr>
              <a:t>لحل هذه المشكلة اضغط تعديل 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51280" y="2852640"/>
            <a:ext cx="0" cy="43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800"/>
                            </p:stCondLst>
                            <p:childTnLst>
                              <p:par>
                                <p:cTn id="7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160"/>
                            </p:stCondLst>
                            <p:childTnLst>
                              <p:par>
                                <p:cTn id="7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35280" y="18900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SKR HEAD1"/>
              </a:rPr>
              <a:t>صفحة تعديل البيانا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8424720" cy="4902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9280" y="357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لاحظ اسم المدرسة استبدل بعلامات استفه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87640" y="4076640"/>
            <a:ext cx="136836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3141720"/>
            <a:ext cx="5760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5734080"/>
            <a:ext cx="576000" cy="50472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445000"/>
            <a:ext cx="33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Arial"/>
                <a:cs typeface="SKR HEAD1"/>
              </a:rPr>
              <a:t>اضغط هنا سنكرر خطوة                   البحث عن المدرسة مرة أخر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08360" y="5300280"/>
            <a:ext cx="1150920" cy="36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"/>
                            </p:stCondLst>
                            <p:childTnLst>
                              <p:par>
                                <p:cTn id="7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209080" cy="5388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1640" y="3284640"/>
            <a:ext cx="28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اكتب هنا اسم المدر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3716280"/>
            <a:ext cx="216000" cy="433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335772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227280" y="4149720"/>
            <a:ext cx="1008360" cy="142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3860640"/>
            <a:ext cx="576360" cy="505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KR HEAD1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0561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SKR HEAD1"/>
              </a:rPr>
              <a:t>مجمع الأمير محم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 u="sng">
                <a:solidFill>
                  <a:srgbClr val="000000"/>
                </a:solidFill>
                <a:uFillTx/>
                <a:latin typeface="Arial"/>
                <a:cs typeface="SKR HEAD1"/>
              </a:rPr>
              <a:t>نتيجة البح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45080" y="551664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اختيار سينقلك لصفحة تجد اختيارك قد تظلل باللون البرتقا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740360" y="5373720"/>
            <a:ext cx="64764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8064360" cy="6050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 flipV="1">
            <a:off x="5219640" y="5733720"/>
            <a:ext cx="115272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12000" y="5516640"/>
            <a:ext cx="288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  <a:cs typeface="SKR HEAD1"/>
              </a:rPr>
              <a:t>اضغط موافق للعودة                 لصفحة تعديل البيان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064360" cy="5759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rot="19014000">
            <a:off x="208800" y="349092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Arial"/>
                <a:cs typeface="SKR HEAD1"/>
              </a:rPr>
              <a:t>لاحظ تغير اسم المدر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27280" y="3933720"/>
            <a:ext cx="1368360" cy="1150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24720" cy="2787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rot="19604400">
            <a:off x="3420000" y="24919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292720" y="2491920"/>
            <a:ext cx="165564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476360" y="3500280"/>
            <a:ext cx="5689440" cy="2824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0920" y="494172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0000"/>
                </a:solidFill>
                <a:latin typeface="Arial"/>
                <a:cs typeface="SKR HEAD1"/>
              </a:rPr>
              <a:t>اختر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5373720"/>
            <a:ext cx="2374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0494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SKR HEAD1"/>
              </a:rPr>
              <a:t>أولى الخطوات  الذهاب إلى موقع مركز القياس  إما بكتابة اسم الموقع مباشرة من النشرات المعطاة أو الذهاب لموقع البح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www.google.com.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549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SKR HEAD1"/>
              </a:rPr>
              <a:t>تم بحمد الله تعديل البيانات  وستظهر صفحتك الرئيسية كهذ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639200" cy="5181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124000" y="335772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00"/>
                </a:solidFill>
                <a:latin typeface="Arial"/>
                <a:cs typeface="SKR HEAD1"/>
              </a:rPr>
              <a:t>لا حظ ظهور اسم المدرسة ه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435640" y="2997000"/>
            <a:ext cx="792000" cy="43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80"/>
                            </p:stCondLst>
                            <p:childTnLst>
                              <p:par>
                                <p:cTn id="9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836640"/>
            <a:ext cx="7777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ختاما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سأل الله العلي العظيم أن ييسر لكم اختبار القدرات ويوفقكم فيه 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لا أنسى قبل الختام أن أقدم جزيل الشكر والتقدير لزملائكم الذين منحوني الفرصة لتسجيلهم حتى أثبت خطوات التسجيل وأنقلها لكم كما شاهدتموها فلهم مني وافر التقدير والاحتر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وتقبلوا جميعاً تحيات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أخوك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SKR HEAD1"/>
              </a:rPr>
              <a:t>طارق السنح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SKR HEAD1"/>
              </a:rPr>
              <a:t>Tarik.505@windowsliv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208720" cy="5472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04000" y="256536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1640" y="2421000"/>
            <a:ext cx="32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   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1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نكتب قياس  في خانة ال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292720" y="2924280"/>
            <a:ext cx="122400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21000"/>
            <a:ext cx="201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SKR HEAD1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      </a:t>
            </a:r>
            <a:r>
              <a:rPr b="0" lang="hi-IN" sz="2000" spc="-1" strike="noStrike">
                <a:solidFill>
                  <a:srgbClr val="ff0000"/>
                </a:solidFill>
                <a:latin typeface="Arial"/>
                <a:cs typeface="SKR HEAD1"/>
              </a:rPr>
              <a:t>اضغط على بحث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SKR HEA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79640" y="3789360"/>
            <a:ext cx="187164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8425080" cy="6192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35280" y="4292640"/>
            <a:ext cx="32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SKR HEAD1"/>
              </a:rPr>
              <a:t>اختر أول نتيجة ستظهر 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4724280"/>
            <a:ext cx="505080" cy="21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850160" cy="5905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62240" y="3916440"/>
            <a:ext cx="11509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4880" y="3675240"/>
            <a:ext cx="72072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08000" y="321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7272360" cy="59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700360" y="2205000"/>
            <a:ext cx="1152360" cy="1079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557360"/>
            <a:ext cx="172872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52640"/>
            <a:ext cx="15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2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2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675640" cy="5513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5724360" y="3429000"/>
            <a:ext cx="36036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3280" y="2421000"/>
            <a:ext cx="3456000" cy="93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6680" y="4178160"/>
            <a:ext cx="20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0000"/>
                </a:solidFill>
                <a:latin typeface="Arial"/>
                <a:cs typeface="SKR HEAD1"/>
              </a:rPr>
              <a:t>اضغط هنا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42920" y="189000"/>
            <a:ext cx="8893080" cy="6431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4754520"/>
            <a:ext cx="460836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00"/>
                </a:solidFill>
                <a:latin typeface="Arial"/>
                <a:cs typeface="SKR HEAD1"/>
              </a:rPr>
              <a:t>بعد تعبئة هذه البيانات  اضغط هن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0000"/>
                </a:solidFill>
                <a:latin typeface="Arial"/>
                <a:cs typeface="SKR HEAD1"/>
              </a:rPr>
              <a:t>ستنتقل لصفحة يطلب منك إدخال عدة بيا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5445000"/>
            <a:ext cx="237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02:07Z</dcterms:created>
  <dc:creator>Stars</dc:creator>
  <dc:description/>
  <dc:language>en-US</dc:language>
  <cp:lastModifiedBy>abc</cp:lastModifiedBy>
  <dcterms:modified xsi:type="dcterms:W3CDTF">2008-12-01T20:16:31Z</dcterms:modified>
  <cp:revision>43</cp:revision>
  <dc:subject/>
  <dc:title>الشريحة 1</dc:title>
</cp:coreProperties>
</file>